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7C21-2B09-419D-8EF3-E13B9DA9A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80EE-6E98-4508-906A-D15841A23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B876-6A3F-497B-A6CB-BA5B22055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CFD1-8196-497E-89D7-88D90F366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3E2B-CFA5-4CD8-B2A4-976C8CAE3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2607-6CE1-4939-A274-DBBD50120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799E-BC9C-4C2F-AE94-99BB612CF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39BB-5F3A-4F3A-82FA-CC5D1162E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5B5A-C372-448F-803B-E89FA87BE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E768-EBAC-4571-90D8-DFE582A4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AF81-7CDD-43AD-AE33-E1BC4D88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9168-01A4-4C56-8CFE-733DD659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80DA2-561B-4BE0-9809-109A1C8717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10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738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5029200"/>
            <a:ext cx="91440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ليلة الميلاد يمحى البغض    ليلة الميلاد تزهر الأر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ليلة الميلاد تدفن الحرب     ليلة الميلاد ينبت الحب</a:t>
            </a:r>
            <a:r>
              <a:rPr b="0" lang="ar-SA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00016860_Thumbnail" descr=""/>
          <p:cNvPicPr/>
          <p:nvPr/>
        </p:nvPicPr>
        <p:blipFill>
          <a:blip r:embed="rId1"/>
          <a:stretch/>
        </p:blipFill>
        <p:spPr>
          <a:xfrm>
            <a:off x="0" y="17640"/>
            <a:ext cx="9144000" cy="3568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3352680"/>
            <a:ext cx="8763120" cy="57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عندما نسقي عطشان كأس ماء     نكون في الميلا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عندما نكسي عريان ثوب حب       نكون في الميلا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عندما نكفكف الدموع في العيون    نكون في الميلا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ندما نفرش القلوب بالرجاء           نكون في الميلاد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10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738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5029200"/>
            <a:ext cx="91440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ليلة الميلاد يمحى البغض    ليلة الميلاد تزهر الأر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ليلة الميلاد تدفن الحرب     ليلة الميلاد ينبت الحب</a:t>
            </a:r>
            <a:r>
              <a:rPr b="0" lang="ar-SA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21303917YvwWhKWccB_ph" descr=""/>
          <p:cNvPicPr/>
          <p:nvPr/>
        </p:nvPicPr>
        <p:blipFill>
          <a:blip r:embed="rId1"/>
          <a:stretch/>
        </p:blipFill>
        <p:spPr>
          <a:xfrm>
            <a:off x="0" y="0"/>
            <a:ext cx="54100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638680" y="380880"/>
            <a:ext cx="3505320" cy="96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عندما أقبّل رفيقي دون غش  أكون في الميلا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عندما تموت فيّ روح الانتقام أكون في الميلا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عندما يرمّد في قلبي الجفا أكون في الميلا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ندما تذوب نفسي في كيان الله أكون في الميلاد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10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738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5029200"/>
            <a:ext cx="91440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ليلة الميلاد يمحى البغض    ليلة الميلاد تزهر الأر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ليلة الميلاد تدفن الحرب     ليلة الميلاد ينبت الحب</a:t>
            </a:r>
            <a:r>
              <a:rPr b="0" lang="ar-SA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9T09:49:43Z</dcterms:created>
  <dc:creator>SUZANNE.MD</dc:creator>
  <dc:description/>
  <dc:language>en-US</dc:language>
  <cp:lastModifiedBy>USER</cp:lastModifiedBy>
  <dcterms:modified xsi:type="dcterms:W3CDTF">2003-02-08T06:56:21Z</dcterms:modified>
  <cp:revision>4</cp:revision>
  <dc:subject/>
  <dc:title>PowerPoint Presentation</dc:title>
</cp:coreProperties>
</file>